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A62-DF42-4454-A4FF-26F6DB0F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5C0-D05C-45FA-B09B-9C79BFB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BD9-4B31-452E-AF91-68BC9395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21C-6506-497F-B5D3-4692FD77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A7C6-CF76-472A-8A87-D54BB067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A22C-F7AC-4927-9E0D-3EC30D24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5D2-F897-4AE8-A41B-75CEA76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DB32-EE0E-412A-A924-D9BA993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22DD-2C0F-4BDD-BFA6-47E7E22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AE2D-9E2E-452A-B8E7-C93796EB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FD3D-929D-4A1F-B301-D838439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E99-BF6F-4364-A327-D1CCC6E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D8C2-88B7-4742-8BCE-F7F9619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4A1A-73E8-415B-B944-FF56C34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DE0E-54C5-4B4C-9365-9EEE6F3D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163-08D3-4D6B-868A-910FC4B6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CEEE-34AF-4B4C-9FBA-2BF294F9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0B50-0FDE-4306-8E0F-1249D539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8504-9154-48C6-A8AE-6A439EB7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D8B1-B659-4643-A0DA-547BA83E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60B8-F167-4C75-8EEC-3B27FF3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0662-F970-4842-861B-15F0E56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D25-927C-41CE-8381-A128A5EB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0EC9-3C0A-4D24-A810-C03379F3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256E-1A28-4D16-9E83-8EF0988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7EB4-4C31-4F5E-B505-72B215D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EEE4-455A-40D6-B134-CC290DA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2104-91FC-43C3-B9F9-C8C547CE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05F4-E8A4-47EC-A6ED-F498DC23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7DA3-29EC-434E-87A8-A3A9F233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BFAC-9106-47A6-A581-D568A6B1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B4E2-F76E-4050-B2BF-1B5DE2A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0C82-EF19-4DE0-B4F8-816479D5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924-E098-4B8F-BDD6-D193797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D467-E6BF-429A-A5B6-8001925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BE00-B5A5-4086-BB14-FE4D2B4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B282-A897-41AA-B026-5435641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C9B2-A41B-4120-93BB-02EB2CB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C575-6DA6-4140-BBF0-9A4E0CD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C8A5-7EE4-426D-B31D-6CD94CE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AD18-18E7-4134-B486-C85CEC0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D1E3-491D-4B85-999E-E83EB7A0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ECAF-D3AF-4BFE-85EB-0A1FF8D6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D1D5-1873-4DCA-989B-E8E6A7E8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F91-B976-4C1D-B651-8BD6F004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5D02-D0C4-4081-BB33-640CBC2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64CF-0F88-4FC2-AA8A-31117BD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EB24-6D37-4B03-B5A1-C3FF77F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F552-C97D-4C9A-8564-24E36ABC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9003-6C30-437E-886A-9B0DEB7C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D5DF-8021-4728-883E-E4AAAA0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B015-BA85-4664-8BCF-7982810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53EC8-D45D-4551-A10B-02DD123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BBA6B-E4B0-4B2F-ADBA-5FE5EB01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5956-2160-41F8-BBD6-049F1937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746-B72D-420C-B2FE-BA9B9093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8A80-B20A-406E-A86E-B4E3B6C5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3107-56D1-417E-A5E1-1C8A4AC3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BB69-5E64-4C81-9704-3DE1F80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E72AA-8384-4F2D-90AF-CD0AAAB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6F899-B4E8-4D2D-8847-438C3CDA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9D561-84F6-4AD4-BD74-28780A73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0F80A-66A2-4967-8732-012FE545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49008-781C-4EF3-AC32-31BA6AF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3EBD-05D1-4409-9D6E-C6EB9E9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6884C-BED4-414B-B385-ED5E2B3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878-790F-442C-B1F6-D8418A8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8795-FFC8-4601-B342-F27A771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C986C-A56F-475C-891E-F2586547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65384-F343-4B3D-98EB-77065B0B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E7E5E-60F8-4CD8-9207-48A50EB7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8D4B-6CC2-47A7-B095-8A2B9D63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0D75-9E8D-4972-B582-C952B1D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4F864-0016-4E20-8BCC-B9BC358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100A-48E7-4311-B948-647EB3FE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5A09-896C-4A44-BE70-EE682384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27AB5-2CAC-4296-BA7B-3FAE402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4B7-E83C-427E-8584-6249CBB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6264-2E9D-46FE-9268-D053DD4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A932C-25FD-4038-AAF2-B11317A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8D14-2D35-4F33-8C2C-3DA821F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C001-BF48-43B3-AC6A-E12C1B27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972A-8E6D-434D-942E-789A08AA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456D-2FC1-4E58-81DA-4BDC8F22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57AA1-3682-4A8D-9767-0C2916AA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2181C-3086-4C37-86AB-596AB5B6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93B7-538A-4CB5-95C9-CE37645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AC51-5E97-444C-B3B1-6CB121E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586-5263-4AC4-A4C1-E9A210E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81DB-8615-4817-958A-07C788F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41C9E-D5E3-4ADD-B23D-45A04D4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888D-D0E6-4195-A46C-3DE51E3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06117-3B8E-4722-A266-CD5E734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4D88-8FC2-4AA4-B956-3ACDBA65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E16F0-60B9-4AB1-97B4-28A54F67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C726-79EC-42F3-B508-782F91B7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0638-5859-4EE0-9132-8F56F85B3B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DD3-5308-4A9F-ABBE-D68AFED24D9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897-4163-46C8-AD62-79C1093C3D3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3D9-F8A8-4D48-8840-47D6F38CDC3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0C3-0442-43FB-8B4B-4C61682C53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86B6-8FFA-4E10-83EB-4C5EB880210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EB2-2E20-4D29-B5A7-7824A7BE138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433-30B7-430C-AE42-62D16E074E9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hannelview.isd.esc4.net/technology/PDF/office2007.pdf" TargetMode="External"/><Relationship Id="rId3" Type="http://schemas.openxmlformats.org/officeDocument/2006/relationships/hyperlink" Target="http://www.channelview.isd.esc4.net/technology/PDF/office2007saving.pdf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What’s New - PowerPoi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738600" cy="557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3"/>
          <a:stretch/>
        </p:blipFill>
        <p:spPr>
          <a:xfrm>
            <a:off x="990720" y="2714760"/>
            <a:ext cx="3181320" cy="571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" descr=""/>
          <p:cNvPicPr/>
          <p:nvPr/>
        </p:nvPicPr>
        <p:blipFill>
          <a:blip r:embed="rId4"/>
          <a:stretch/>
        </p:blipFill>
        <p:spPr>
          <a:xfrm>
            <a:off x="990720" y="3919680"/>
            <a:ext cx="45003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1143000" y="2743200"/>
            <a:ext cx="2333520" cy="2419200"/>
          </a:xfrm>
          <a:prstGeom prst="rect">
            <a:avLst/>
          </a:prstGeom>
          <a:ln w="0">
            <a:noFill/>
          </a:ln>
        </p:spPr>
      </p:pic>
      <p:sp>
        <p:nvSpPr>
          <p:cNvPr id="409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item on ribbon to display explanation/defi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4191120" y="266688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457200" y="12952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part of standard ribbon t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 only when object on page is double click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05880" cy="5522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2133720" y="4267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Table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ontent Placeholder 2"/>
          <p:cNvSpPr/>
          <p:nvPr/>
        </p:nvSpPr>
        <p:spPr>
          <a:xfrm>
            <a:off x="609480" y="2895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Picture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5443560" cy="681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4"/>
          <a:stretch/>
        </p:blipFill>
        <p:spPr>
          <a:xfrm>
            <a:off x="2362320" y="5562720"/>
            <a:ext cx="63151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forma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o se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not chang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t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apply 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t formatting toolbar displays on right cl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37432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212840" y="6480"/>
            <a:ext cx="8089920" cy="9936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2193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What’s New - PowerPoi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380880" y="19810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design templates (“themes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layou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effects for objects and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b13f9a"/>
                </a:solidFill>
                <a:latin typeface="Lucida Sans Unicode"/>
              </a:rPr>
              <a:t>New charts (“SmartArt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457200" y="1481040"/>
          <a:ext cx="8229600" cy="1490760"/>
        </p:xfrm>
        <a:graphic>
          <a:graphicData uri="http://schemas.openxmlformats.org/drawingml/2006/table">
            <a:tbl>
              <a:tblPr/>
              <a:tblGrid>
                <a:gridCol w="4724280"/>
                <a:gridCol w="35053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pp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377" name="TextBox 13"/>
          <p:cNvSpPr/>
          <p:nvPr/>
        </p:nvSpPr>
        <p:spPr>
          <a:xfrm>
            <a:off x="533520" y="3657600"/>
            <a:ext cx="792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ving Common Convers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788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ffice 2007 Converter = </a:t>
            </a:r>
            <a:r>
              <a:rPr b="0" lang="en-US" sz="1800" spc="-1" strike="noStrike" u="sng">
                <a:solidFill>
                  <a:srgbClr val="d787a3"/>
                </a:solidFill>
                <a:uFillTx/>
                <a:latin typeface="Lucida Sans Unicode"/>
                <a:hlinkClick r:id="rId2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788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aving as Lower Version = </a:t>
            </a:r>
            <a:r>
              <a:rPr b="0" lang="en-US" sz="1800" spc="-1" strike="noStrike" u="sng">
                <a:solidFill>
                  <a:srgbClr val="d787a3"/>
                </a:solidFill>
                <a:uFillTx/>
                <a:latin typeface="Lucida Sans Unicode"/>
                <a:hlinkClick r:id="rId3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9" descr=""/>
          <p:cNvPicPr/>
          <p:nvPr/>
        </p:nvPicPr>
        <p:blipFill>
          <a:blip r:embed="rId4"/>
          <a:srcRect l="12142" t="0" r="0" b="0"/>
          <a:stretch/>
        </p:blipFill>
        <p:spPr>
          <a:xfrm>
            <a:off x="1905120" y="213372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"/>
          <p:cNvPicPr/>
          <p:nvPr/>
        </p:nvPicPr>
        <p:blipFill>
          <a:blip r:embed="rId5"/>
          <a:srcRect l="13590" t="0" r="0" b="0"/>
          <a:stretch/>
        </p:blipFill>
        <p:spPr>
          <a:xfrm>
            <a:off x="3124080" y="2133720"/>
            <a:ext cx="592200" cy="685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1" descr="ppt"/>
          <p:cNvPicPr/>
          <p:nvPr/>
        </p:nvPicPr>
        <p:blipFill>
          <a:blip r:embed="rId6"/>
          <a:srcRect l="0" t="0" r="10385" b="0"/>
          <a:stretch/>
        </p:blipFill>
        <p:spPr>
          <a:xfrm>
            <a:off x="6781680" y="2133720"/>
            <a:ext cx="5526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43200" cy="315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5181480" cy="2139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2209320"/>
            <a:ext cx="14479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952880" y="4724280"/>
            <a:ext cx="19814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eviou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more drop down me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fice Butt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Toolba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4098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13f9a"/>
                </a:solidFill>
                <a:latin typeface="Lucida Sans Unicode"/>
              </a:rPr>
              <a:t>Office Butt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610160" cy="5362560"/>
          </a:xfrm>
          <a:prstGeom prst="rect">
            <a:avLst/>
          </a:prstGeom>
          <a:ln w="0">
            <a:noFill/>
          </a:ln>
        </p:spPr>
      </p:pic>
      <p:sp>
        <p:nvSpPr>
          <p:cNvPr id="391" name="Content Placeholder 2"/>
          <p:cNvSpPr/>
          <p:nvPr/>
        </p:nvSpPr>
        <p:spPr>
          <a:xfrm>
            <a:off x="457200" y="2057400"/>
            <a:ext cx="4495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s “File” 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s common ta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3809880" y="2819520"/>
            <a:ext cx="3448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ribbon tab for type of command you wish to per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de/Display Ribb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TRL+F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menu comm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/>
          <a:srcRect l="0" t="0" r="24126" b="0"/>
          <a:stretch/>
        </p:blipFill>
        <p:spPr>
          <a:xfrm>
            <a:off x="533520" y="1143000"/>
            <a:ext cx="6172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938920" cy="547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3"/>
          <a:stretch/>
        </p:blipFill>
        <p:spPr>
          <a:xfrm>
            <a:off x="609480" y="2635200"/>
            <a:ext cx="4091040" cy="55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4"/>
          <a:stretch/>
        </p:blipFill>
        <p:spPr>
          <a:xfrm>
            <a:off x="609480" y="3832200"/>
            <a:ext cx="7758360" cy="557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5"/>
          <a:stretch/>
        </p:blipFill>
        <p:spPr>
          <a:xfrm>
            <a:off x="609480" y="5029200"/>
            <a:ext cx="776772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15:27Z</dcterms:created>
  <dc:creator>Dina Rich</dc:creator>
  <dc:description/>
  <dc:language>en-US</dc:language>
  <cp:lastModifiedBy>Dina Rich</cp:lastModifiedBy>
  <dcterms:modified xsi:type="dcterms:W3CDTF">2010-05-17T13:51:46Z</dcterms:modified>
  <cp:revision>29</cp:revision>
  <dc:subject/>
  <dc:title>Office 2007</dc:title>
</cp:coreProperties>
</file>